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C8B661-B220-48AA-9D31-7CD931690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B10434-AA24-4FFD-BB06-FA91D0AAD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levator power fails, they grip their cables 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you are developing a client for a system that sends a password to an authentication server to check the password.  If the authentication server is down, access to all clients should be denied by defaul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shift gears from talking about general high-level approaches and tradeoffs to talking about design princi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indows traditionally ships with many (network) services on by default (i.e, IIS!).  Vulnerabilities become available to attackers immediately after the system is installed and set up!  To prevent this, create a “hardened” version of your system, and new installations should be made based on the “hardened” ver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bility: when to *use* security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don’t know what they need: stock quote example: users might say that they just want their quotes fast and don’t want them to be encrypted (i.e., since the information is public anyway), but a bad guy might change the content and force people to do trades they wouldn’t want to do otherwise since few people will actually double check the stock quote inf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ome up with a compelling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ter half of this chapter, we will focus on discussing a few well-known secure design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rinciple, the principle of least privilege, states that to ensure security in a system, a process should only be given access to the most limited set of resources necessary to accomplish its task.  That is, a user or a computer program should only be given just enough authority to get his or her or its job done.  A common every-day example of the principle of least privilege at work in the physical world is the use of valet keys.  A valet is someone that parks your car for you when you arrive at a hotel or restaurant, and people give their car keys to valets so that they can do so.  Most cars that you buy these days come with special valet keys, and valets are given valet keys to park cars.  The valet key allows to valet to only start the car and drive it to its parking spot.  The valet key does not give the valet access to open the glove compartment or the trunk, where valuables might be kept. The idea is to give the valet access to only those resources necessary to do his or her job of parking the car.  If we were to attempt to design a valet key system for an automobile even better, we might limit the number of miles that could be driven with the valet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follow the same principle when designing our computer programs.  If a web server is responsible for serving files to web users, the web server should only be given access to the set of HTML files that the web server is to server.  By following this approach, if the web server is broken into, and the attacker is able to access a command shell the most that the attacker would be able to do is read the HTML files.  Unfortunately, sometimes web servers are run with elevated privileges that gives them access to other parts of a file system as well, and are also given the ability to modify files (as some CGI-scripts may need to do so).  A principle of least privilege approach would limit the amount of damage that an attacker might be able to do if the web server is limited in the privileges that it has.  However, in the real-world, even if the web server is being run with limited privileges, there are typically so many vulnerabilities that attackers are able to determine ways to elevate the privileges of an account even if it only typically has the ability to just read files on a particular part of the file system.  Nevertheless, this does not mean that we should not try to protect our systems by employing the principle of least priv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Avoid setuid to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how attackers can infiltrate a system that does not correctly take advantage of the principle of least privilege is bad set-uid scripts.  On UNIX systems, sometimes it is necessary to elevate the privilege of a process.  For example, when a user wants to change her password, the “passwd” program that is used to do this must make changes to the system password file once it authenticates the user.  The only user that typically has access to modify this file that contains all of the usernames and passwords of all the users in the system is the administrator.  But in order for the passwd program to work, the passwd program itself must be given administrator privileges to change the password for the user’s account once the user is authenticated.  The passwd program is said to have its uid, or user id, set to root (the administrator account) when it runs.  That is, regardless of which user runs the passwd program, the program is executed with elevated privileges (that of root instead of the regular user) to do its job.  While the passwd program is an example of a program that absolutely must be set-uid to root to get its job done, there are examples of other UNIX programs that had a set-uid to root that didn’t absolutely need this privilege.  These programs violate the principle of least privilege and lead to security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ld version of the “lpr” command in the UNIX system was used to print files, and could be told to delete a file after it was printed.  The old version of this command used to be set-uid to root because the file would need to be copied to a special “print spool” directory owned by root.  So, it was possible to abuse “lpr” to delete other people’s files.  The way this would work is you provide the name of some other users file to lpr and you also tell it do delete the file.  Since lpr runs with root privileges, it copies the file into the print spool directory, and then deletes it.  The root account is allowed to delete any file, and so it does not matter that you may not be authorized to delete the other person’s file– when you run lpr, you are given elevated root privileges, and are allowed to do anything that lpr will let you.  Had the principle of least privilege been followed in the original design of the lpr command, the command would not be set-uid to root.  Instead, a separate user account would have been created for the express purpose of printing files.  The print spool directory would be owned by that account.  The lpr command would be rewritten such that it would execute in two sub-processes.  Sub-process 1 would be set-uid to the print-spool account and copy the file to be printed into the print spool directory, and sub-process 2 would be the traditional rm command that only allows a user to delete his or her own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t privilege can minimize the damage that can result from an attack by a trojan hor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security guards (guns), bulletproof glass, cash with dy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9ACED8-6306-4611-BCDA-0F6A1F8C4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9F30F6-8C5F-43C6-B360-3A6ED497D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62D57-1033-4C0E-AB38-1DF12E226E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E9CF6-BBD9-4F42-A046-6C6381E0B4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91F8D-884E-4ECE-B75A-F01456E8C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D0CAF-FB84-487C-B761-022A5A23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4647B-AF96-4EAD-B6DB-470622500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253E7-FC46-410A-B72B-86325F857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D87F8-3137-49CA-BEFB-D688CD01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47A4-BB7C-4060-AC78-C98E77448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BBCF6-9750-4EB8-B5D1-1E6D0BE86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893D9B-CC49-425C-AF7D-D32FD8333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D43C-BA39-4CE4-B27B-3BD25B241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003A6-FAAD-44AD-89FF-2E2D88DEC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79B11-32E1-46E5-827E-953C30F64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BCDD9-C57C-489E-9B83-0AB44AFAA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087FF-53FF-4C1D-878F-66A1BDBE3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1D342-83D9-4EF7-9513-EC21C1494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B0413-7078-4F64-8D44-176931CD7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6CAFF-ABF1-4690-956B-2DC8344E5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807ECE-16DF-43BA-A024-CEF325808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982368-EE50-4905-9638-F52F95ECA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A2AF94-FB4F-4C17-A418-35ABA2523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D47648-FBF9-4C35-86C3-DB959D051F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9142-A447-489F-80D9-CB97D90D73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5C46-5C6B-4C98-9FFD-035AEEC182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Design Principl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3. Diversity-in-Defens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multiple heterogeneous systems that do the same th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variety of OSes to defend against virus attac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firewall (different vendor) between server &amp; DB</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T staff need to be experts in and apply to patches for many technologi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 extra security against extra over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 Securing the Weakest Link</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only as strong as its weakest lin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eak Link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cured Dial-In Hosts: War Diale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Passwords: easy to cr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ocial Engineering Attac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s from garbage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1. Weak Password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hird of users choose a password that could be found in the dictiona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employ a dictionary attack and will eventually succeed in guessing someone’s passswor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Least Privilege, can at least mitigate damage from compromised acc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2. Peopl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could fall for phishing attacks (e.g. someone calls them pretending to be the “sys admin” and asks for their passwor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a problem for larger compani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Programm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ut back doors into their progra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mploy code review</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employees happy, less incentive for them to defraud compan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istribute info on need-to-know basis, perform background checks on h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3. Implementation Vulnerabilitie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esign can have bugs in implementatio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se of encryption can allow attacker to bypass it and access protected data</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vertent mixing of control and data</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eeds input data that’s interpreted as a command to hijack control of progra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buffer overflows, SQL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 Fail-Safe Stance</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amp; Plan for System Fail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ample: Elevato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with expectation of power failur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wer outage, can grab onto cables or guide rail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f firewall fails, let no traffic 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y access by defaul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ccept all (including malicious), because that gives attacker additional incentive to cause failur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1. SWS Fail-Safe Example</a:t>
            </a:r>
            <a:endParaRPr b="0" lang="en-US" sz="4400" spc="-1" strike="noStrike">
              <a:solidFill>
                <a:srgbClr val="000000"/>
              </a:solidFill>
              <a:latin typeface="Arial"/>
            </a:endParaRPr>
          </a:p>
        </p:txBody>
      </p:sp>
      <p:sp>
        <p:nvSpPr>
          <p:cNvPr id="146" name="PlaceHolder 2"/>
          <p:cNvSpPr>
            <a:spLocks noGrp="1"/>
          </p:cNvSpPr>
          <p:nvPr>
            <p:ph/>
          </p:nvPr>
        </p:nvSpPr>
        <p:spPr>
          <a:xfrm>
            <a:off x="456840" y="1752120"/>
            <a:ext cx="8232840" cy="36885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de excluded...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c != -1) {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sb.append((char)c); // if memory run out, crashes!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 = fr.read();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sw.write (sb.toString());</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147" name=""/>
          <p:cNvSpPr/>
          <p:nvPr/>
        </p:nvSpPr>
        <p:spPr>
          <a:xfrm>
            <a:off x="457200" y="5029200"/>
            <a:ext cx="8229600" cy="11430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es, but doesn’t do something insecure</a:t>
            </a:r>
            <a:endParaRPr b="0" lang="en-US" sz="2800" spc="-1" strike="noStrike">
              <a:solidFill>
                <a:srgbClr val="000000"/>
              </a:solidFill>
              <a:latin typeface="Arial"/>
            </a:endParaRPr>
          </a:p>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 bug since it can be used for DoS</a:t>
            </a:r>
            <a:endParaRPr b="0" lang="en-US" sz="2800" spc="-1" strike="noStrike">
              <a:solidFill>
                <a:srgbClr val="000000"/>
              </a:solidFill>
              <a:latin typeface="Arial"/>
            </a:endParaRPr>
          </a:p>
          <a:p>
            <a:pPr lvl="1" marL="564480" indent="-217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use </a:t>
            </a:r>
            <a:r>
              <a:rPr b="0" lang="en-US" sz="2400" spc="-1" strike="noStrike">
                <a:solidFill>
                  <a:srgbClr val="000000"/>
                </a:solidFill>
                <a:latin typeface="Courier New"/>
              </a:rPr>
              <a:t>/dev/random</a:t>
            </a:r>
            <a:r>
              <a:rPr b="0" lang="en-US" sz="2400" spc="-1" strike="noStrike">
                <a:solidFill>
                  <a:srgbClr val="000000"/>
                </a:solidFill>
                <a:latin typeface="Arial"/>
              </a:rPr>
              <a:t>, infinite length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2. Checking the File Length</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ix: have a default maximum amount of data to read from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erve file if sufficient memory avail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doesn’t work for </a:t>
            </a:r>
            <a:r>
              <a:rPr b="0" lang="en-US" sz="2800" spc="-1" strike="noStrike">
                <a:solidFill>
                  <a:srgbClr val="000000"/>
                </a:solidFill>
                <a:latin typeface="Courier New"/>
              </a:rPr>
              <a:t>/dev/random</a:t>
            </a:r>
            <a:r>
              <a:rPr b="0" lang="en-US" sz="2800" spc="-1" strike="noStrike">
                <a:solidFill>
                  <a:srgbClr val="000000"/>
                </a:solidFill>
                <a:latin typeface="Arial"/>
              </a:rPr>
              <a:t>, since it’s a special file whose length is reported as 0 (it doesn’t actually exist on disk)</a:t>
            </a:r>
            <a:endParaRPr b="0" lang="en-US" sz="2800" spc="-1" strike="noStrike">
              <a:solidFill>
                <a:srgbClr val="000000"/>
              </a:solidFill>
              <a:latin typeface="Arial"/>
            </a:endParaRPr>
          </a:p>
        </p:txBody>
      </p:sp>
      <p:sp>
        <p:nvSpPr>
          <p:cNvPr id="150" name=""/>
          <p:cNvSpPr/>
          <p:nvPr/>
        </p:nvSpPr>
        <p:spPr>
          <a:xfrm>
            <a:off x="1127880" y="3262320"/>
            <a:ext cx="74502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name = checkPath(pathname); // canonical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f = new File (path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f.length() &gt; Runtime.getRuntime().freeMemo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throw new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3. Don’t Store the File in Memor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storing the bytes of the file before sending it, just stream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t>
            </a:r>
            <a:r>
              <a:rPr b="0" lang="en-US" sz="2800" spc="-1" strike="noStrike">
                <a:solidFill>
                  <a:srgbClr val="000000"/>
                </a:solidFill>
                <a:latin typeface="Courier New"/>
              </a:rPr>
              <a:t>/dev/random</a:t>
            </a:r>
            <a:r>
              <a:rPr b="0" lang="en-US" sz="2800" spc="-1" strike="noStrike">
                <a:solidFill>
                  <a:srgbClr val="000000"/>
                </a:solidFill>
                <a:latin typeface="Arial"/>
              </a:rPr>
              <a:t> causes server to be forever tied up servicing attacker’s request, can’t serve other legitimate requests (DoS still possible)</a:t>
            </a:r>
            <a:endParaRPr b="0" lang="en-US" sz="2800" spc="-1" strike="noStrike">
              <a:solidFill>
                <a:srgbClr val="000000"/>
              </a:solidFill>
              <a:latin typeface="Arial"/>
            </a:endParaRPr>
          </a:p>
        </p:txBody>
      </p:sp>
      <p:sp>
        <p:nvSpPr>
          <p:cNvPr id="153" name=""/>
          <p:cNvSpPr/>
          <p:nvPr/>
        </p:nvSpPr>
        <p:spPr>
          <a:xfrm>
            <a:off x="1511280" y="2971440"/>
            <a:ext cx="6352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sw.write(c); // No StringBuffer sto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4. …and Impose a Download Limit</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perly defend against </a:t>
            </a:r>
            <a:r>
              <a:rPr b="0" lang="en-US" sz="2800" spc="-1" strike="noStrike">
                <a:solidFill>
                  <a:srgbClr val="000000"/>
                </a:solidFill>
                <a:latin typeface="Courier New"/>
              </a:rPr>
              <a:t>/dev/random</a:t>
            </a:r>
            <a:r>
              <a:rPr b="0" lang="en-US" sz="2800" spc="-1" strike="noStrike">
                <a:solidFill>
                  <a:srgbClr val="000000"/>
                </a:solidFill>
                <a:latin typeface="Arial"/>
              </a:rPr>
              <a:t> attack, need to impose max download limi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limit too low, legitimate files get truncated; limit too high, DoS still a threat from abusive requests</a:t>
            </a:r>
            <a:endParaRPr b="0" lang="en-US" sz="2800" spc="-1" strike="noStrike">
              <a:solidFill>
                <a:srgbClr val="000000"/>
              </a:solidFill>
              <a:latin typeface="Arial"/>
            </a:endParaRPr>
          </a:p>
        </p:txBody>
      </p:sp>
      <p:sp>
        <p:nvSpPr>
          <p:cNvPr id="156" name=""/>
          <p:cNvSpPr/>
          <p:nvPr/>
        </p:nvSpPr>
        <p:spPr>
          <a:xfrm>
            <a:off x="670320" y="3200400"/>
            <a:ext cx="77245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mp;&amp; (sentBytes &lt; MAX_DOWNLOAD_LIM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sw.write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nt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Least Privile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in-Depth &amp; Diversity-in-Defen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the Weakest Lin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Safe 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by Defaul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amp; Us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6. Secure By Default</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nable 20% of products features that are used by 80% of user popul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rdening” a system: All unnecessary services off by defa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nabled features means more potential exploits and decreased sec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indows O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eatures turned on to make users hook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lot of viruses like Code Red and Nimda which exploited IIS vulnerabilit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7. Simplicity</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holes likely in complex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r design is easier to understand and aud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ke point</a:t>
            </a:r>
            <a:r>
              <a:rPr b="0" lang="en-US" sz="2800" spc="-1" strike="noStrike">
                <a:solidFill>
                  <a:srgbClr val="000000"/>
                </a:solidFill>
                <a:latin typeface="Arial"/>
              </a:rPr>
              <a:t>: centralized piece of code through which all control must pa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security checks localized, easier to te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functionality = Less securit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le = users can easily accomplish the tasks they need to do with the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rely on documentation: enable security features by default, design to be easy to u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s in tradeoff with user convenienc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lazy (They ignore security dialo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users from committing insecure actions, assist them in doing it secur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y Johnny Can’t Encrypt” – “usability for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 for Security</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Whitten-Tygar) Security software is usable if the people who are expected to use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liably made aware of security tasks they need to per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ble to figure out how to successfully perform those tas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make dangerous erro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fficiently comfortable with the interface to continue us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9. Security Features Do Not Imply Security</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ne or more security algorithms/protocols will not solve all your proble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ncryption doesn’t protect against weak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SL doesn’t protect against buffer overflow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neier: “Security is a process, not a produ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never be completely secure, just provide a </a:t>
            </a:r>
            <a:r>
              <a:rPr b="0" i="1" lang="en-US" sz="2400" spc="-1" strike="noStrike">
                <a:solidFill>
                  <a:srgbClr val="000000"/>
                </a:solidFill>
                <a:latin typeface="Arial"/>
              </a:rPr>
              <a:t>risk assessment</a:t>
            </a:r>
            <a:r>
              <a:rPr b="0" lang="en-US" sz="2400" spc="-1" strike="noStrike">
                <a:solidFill>
                  <a:srgbClr val="000000"/>
                </a:solidFill>
                <a:latin typeface="Arial"/>
              </a:rPr>
              <a:t> (more testing lessening r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needs to find one flaw, designers have to try and cover all possible flaw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 help, but can’t stop bug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 few key design principles to make system more secur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elevated privile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ayered defense (prevention, detection, containment, and recov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weakest lin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ail-safes, i.e. crash gracefu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enable unnecessary fe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esign simple, us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t compensate for bug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Principle of Least Privileg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enough authority to get the job do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 Valet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ets can only start car and drive to parking lo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levated privileges unnecessa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valet key shouldn’t open glove compart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 Ex: can read, not modify, html fi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gets more power, system more vulne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SimpleWebServer Example</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WS run under root account, clients could access all files on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File()</a:t>
            </a:r>
            <a:r>
              <a:rPr b="0" lang="en-US" sz="2400" spc="-1" strike="noStrike">
                <a:solidFill>
                  <a:srgbClr val="000000"/>
                </a:solidFill>
                <a:latin typeface="Arial"/>
              </a:rPr>
              <a:t> method creates </a:t>
            </a:r>
            <a:r>
              <a:rPr b="0" lang="en-US" sz="2400" spc="-1" strike="noStrike">
                <a:solidFill>
                  <a:srgbClr val="000000"/>
                </a:solidFill>
                <a:latin typeface="Courier New"/>
              </a:rPr>
              <a:t>FileReader</a:t>
            </a:r>
            <a:r>
              <a:rPr b="0" lang="en-US" sz="2400" spc="-1" strike="noStrike">
                <a:solidFill>
                  <a:srgbClr val="000000"/>
                </a:solidFill>
                <a:latin typeface="Arial"/>
              </a:rPr>
              <a:t> object for arbitrary pathname provided b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ET ../../../../etc/shadow HTTP/1.0</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rses up to root, </a:t>
            </a:r>
            <a:r>
              <a:rPr b="0" lang="en-US" sz="2400" spc="-1" strike="noStrike">
                <a:solidFill>
                  <a:srgbClr val="000000"/>
                </a:solidFill>
                <a:latin typeface="Courier New"/>
              </a:rPr>
              <a:t>/etc/shadow</a:t>
            </a:r>
            <a:r>
              <a:rPr b="0" lang="en-US" sz="2400" spc="-1" strike="noStrike">
                <a:solidFill>
                  <a:srgbClr val="000000"/>
                </a:solidFill>
                <a:latin typeface="Arial"/>
              </a:rPr>
              <a:t> on UNIX contains list of usernames &amp; encrypted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use this to launch a dictionary atta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canonicalize and validate pathna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ey Least Privilege: Don’t run server under roo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Canonicalizing Pathname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th()</a:t>
            </a:r>
            <a:r>
              <a:rPr b="0" lang="en-US" sz="2800" spc="-1" strike="noStrike">
                <a:solidFill>
                  <a:srgbClr val="000000"/>
                </a:solidFill>
                <a:latin typeface="Arial"/>
              </a:rPr>
              <a:t> method: ensure target path is below current path and no .. in pathna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serveFile()</a:t>
            </a:r>
            <a:r>
              <a:rPr b="0" lang="en-US" sz="2800" spc="-1" strike="noStrike">
                <a:solidFill>
                  <a:srgbClr val="000000"/>
                </a:solidFill>
                <a:latin typeface="Arial"/>
              </a:rPr>
              <a:t> uses normalized path:</a:t>
            </a:r>
            <a:endParaRPr b="0" lang="en-US" sz="2800" spc="-1" strike="noStrike">
              <a:solidFill>
                <a:srgbClr val="000000"/>
              </a:solidFill>
              <a:latin typeface="Arial"/>
            </a:endParaRPr>
          </a:p>
        </p:txBody>
      </p:sp>
      <p:sp>
        <p:nvSpPr>
          <p:cNvPr id="123" name=""/>
          <p:cNvSpPr/>
          <p:nvPr/>
        </p:nvSpPr>
        <p:spPr>
          <a:xfrm>
            <a:off x="914400" y="2971800"/>
            <a:ext cx="73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checkPath (String pathnam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ile target = new File(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ile cwd = new File(System.getProperty("user.di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r's current working directory stored in c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targetStr = target.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cwdStr = cwd.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targetStr.startsWith(cwd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Exception("File Not F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return target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24" name=""/>
          <p:cNvSpPr/>
          <p:nvPr/>
        </p:nvSpPr>
        <p:spPr>
          <a:xfrm>
            <a:off x="1588680" y="6019920"/>
            <a:ext cx="59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 = new FileReader (checkPath(path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Defense-in-Depth</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redundancy/diversity: layers of defense, don’t rely on any one for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Security Guards, Bullet-Proof, Teller Window, Dye on Mon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ifferent types of magic and many levels of defense protecting the Sorcerer's Stone in Harry Pot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1. Prevent, Detect, Contain, and Recover</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mechanisms for preventing attacks, detecting breaches, containing attacks in progress, and recovering from th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particularly important for network security since it may not be clear when an attack is occu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2. Don’t Forget Containment and Recovery</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ve techniques not perfect; treat malicious traffic as a fact, not exceptional condi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containment procedures planned out in advance to mitigate damage of an attack that escapes preventive measur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practice, and test containment pla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a thief removes a painting at a museum, the gallery is locked down to trap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3. Password Security Example</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 Admins can require users to choose strong passwords to prevent guessing att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ct, can monitor server logs for large # of failed logins coming from an IP address and mark it as suspicio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by denying logins from suspicious IPs  or require additional checks (e.g. cook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over, monitor accounts that may have been hacked, deny suspicious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1:47Z</dcterms:modified>
  <cp:revision>2743</cp:revision>
  <dc:subject/>
  <dc:title>Chapter3</dc:title>
</cp:coreProperties>
</file>